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15F9-BCB3-4BB7-919B-A9F5B492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C36B-F429-43EA-9C1C-EA0823F1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6DD0-C0B6-4E24-BEC9-8FD902FE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D85-5772-4141-85AE-F3F2359D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F121-EC31-4B6B-BC7D-CF9AD9291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342F-E67E-42FC-813C-8E889F61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0B92-8264-48A2-A43B-304E2211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6BA5-66E6-4D1E-B452-4D1BF9C7D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876F1FD-D6F5-4E6A-A40B-012E8D883DB3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AF79EF2-0396-4C20-A1D1-6476D35C8832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50D695-2F7B-4110-8026-F96E4C55D5E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C942CF7-5583-4D73-8C9E-7C2B3706F20D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D6E400-E0EF-4D1C-AF7D-048FA06A650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DE089E-626C-4135-B098-A22841FA1CF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1D8A890-ABB6-4593-BCF4-A937C5D31E0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760967-70E1-45FE-8342-F5E16521439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46160" y="5762160"/>
            <a:ext cx="876600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ploring your Digital Sp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85600" y="1450440"/>
            <a:ext cx="782316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ndows OS is like Mission Control center of your compu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s software, folders, and f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Saving and Storing your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 information you may want to s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gital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 stored in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create &amp; save text, pictures, video &amp; sound f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ore (Save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files in a variety of pl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BC29F8C-9815-4673-A25B-E41F0BD68707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igital Storage Spac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12520" y="1600200"/>
            <a:ext cx="802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drive: most common storage devic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/DVD drive: built into most PCs. CD-RW (ReWritable) only let you save data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peripheral connected to your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flash drive or memory card: common storag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ools: Small enough to carry with you -- cameras, cell phones, handh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3391677-CD8A-4CFD-B40B-88CD30D2E4E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igital Storage Spac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48920" y="1509480"/>
            <a:ext cx="84186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local networks (Leaddo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N (Local Area Network):  need an account. Networks usually require usernames &amp; passw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ve in assigned folders (Your Name on Leaddo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 Administrators:  manage the L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24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Inter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ssible from any connected P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ving online” or “uploading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  no need to carry around peripher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ogle, Yahoo, Apple, Microsoft are online examples of storage sp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973080" y="6372360"/>
            <a:ext cx="7713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2179BC6-9961-40C2-818D-4A55B5979BF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s, Folders, Labels, and Tag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lders: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re files are sto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bfolder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smaller folders inside of the main folder. Think Organization!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bels or Tag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akes it easy to find a file using search too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dows Photo Galler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an organize pictures on P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s can have more than one tag/lab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 of sea turtle may have the tags: Ocean, Reptile, Animal (think categor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76E8498-C24A-4972-827B-57708C6BD875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 Labels or Tag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AD3614C-A45A-447B-8767-264EA55C10F7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2125800" y="1609560"/>
            <a:ext cx="5378400" cy="4975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"/>
          <p:cNvSpPr/>
          <p:nvPr/>
        </p:nvSpPr>
        <p:spPr>
          <a:xfrm>
            <a:off x="465120" y="1755720"/>
            <a:ext cx="15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/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D9DBD7A-03EA-474E-967D-252B7CC74C9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180972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2T13:50:08Z</dcterms:modified>
  <cp:revision>55</cp:revision>
  <dc:subject/>
  <dc:title>Slide 1</dc:title>
</cp:coreProperties>
</file>